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B0A758-B828-4EDD-ADD2-61F57A744008}"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51F7C64-752D-40B4-A851-E17ED26EF1DC}"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F90B34DF-BC6A-4C42-859B-F9776042AA52}"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4351ECFF-346D-44FD-8C16-8B5795AEE3C4}"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0D2CFFE8-9E1A-4F37-ACE5-FBF8A9B40050}"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046D6B7A-C5BD-442D-AE82-192CF949298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3A94F092-A57C-431C-89AE-C052F6A17BB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8FACDB9-5A81-491E-A74C-2796AF3DBA42}"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80D5966B-1EFE-4D3E-8441-B3A6C76FB6A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07F0B6E5-FDF6-4F8E-A83B-C197ADE413DB}"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DC9D2A58-9384-49C6-BEE5-78FD3A4F177C}"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A49607A5-8FBE-44D9-82C7-FF95AC39CE36}"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32AC20A9-D524-4478-94E7-DBCC84992B42}"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939B706-444E-401D-A036-6CF049BF880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369BEF1-7DB0-4D1D-96BF-7A3042A77D91}"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CD52A879-2634-44F0-B2AF-B83BA4323BAE}"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891F718C-F8DF-4AF9-9659-0FB1B3F6B4AB}"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EE4A7419-E68B-4730-8B43-75FE422D6776}"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6E13414-3265-4A9C-AC71-666CD61BB685}"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43B07126-6ABA-417E-A1A9-48721281F6EC}"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257E8E2E-1E4C-490E-970F-6B89DB67F336}"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982E2664-D74F-4D51-A9C5-634AE16ACFC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DD74714E-BAB8-4C2A-831E-B4F28D7A135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C72EE84-255E-4416-994D-5E7BCAE41388}"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809189D7-566D-4D3F-A4D1-DD0716226E27}"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F92F623-A919-4802-AA2C-1068D256F0B5}"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3E36F0-AC3C-4C7B-A68D-738D75DEC5BB}"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7FEFD0C-7DA5-484C-808E-DE8DC73E9995}"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F1B7DB8-D4A9-4F56-82A0-202C56E2D1F8}"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8729AFC-FDAA-490C-B00C-6AA483E92FDB}"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F8C451B-1352-4BB6-84B3-A8EA960FBD9E}"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6A54169-D43A-4BAC-9542-1469901F6FC1}"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D82C4EF3-7B82-4F59-B86F-503B49926E8F}"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0F781C2-6250-40B7-B88C-7D81E12AA799}"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7A4390A0-1B64-46C0-BBD5-F0E22DE2104A}"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DD076328-BF04-4F33-9330-B7D3F6B2174C}"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8B7BC37-5A1C-425F-87B7-2E315FAA9A4F}"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9E209A-B95E-4396-A62C-E157CE585274}"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73610169-E5B9-480D-98E0-4EA6A70CC3EB}"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319E4CC-A485-420A-B872-6B59F4CA005A}"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79C0FF2-C8B2-4889-AD73-B467477E96D0}"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9E2D883-94CC-4EA2-8110-616B3847E704}"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FFE1AC0-42D0-424B-826F-39520B58934D}"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8AE85B88-AEEC-4603-AB4A-88C73FF704CE}"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57E77DC6-FB3B-485D-ACD9-41FE800B1277}"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EFE4CE8-E21B-4571-8106-7DA7B18FB8A0}"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222AFB9-0DEF-484D-8585-440B01856B01}"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CF66896-3A34-41B4-9B8F-51C61DBD07BF}"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589FD2-5CB9-4468-AC55-2AF0547D1800}"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6665F0D1-31A6-4F53-910E-CCF1DF5F176F}"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B948600-303C-4B7E-A355-573C1460791C}"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4175F76-5768-4201-BDF8-8EF269D8C707}"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F2B5C6F-888D-4AA7-BA03-F075AEF5D37F}"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00EA70C-769E-453A-8218-540A8F107F41}"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FED6038-5A4C-4927-9BFC-FA3EBAC7A236}"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5F65D7E-6E4F-4E2C-8C66-44148899D810}"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D0DA327-0FFB-4228-92E8-AF8C71D930C1}"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